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gif" ContentType="image/gif"/>
  <Override PartName="/ppt/media/image13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1042920" y="1773360"/>
            <a:ext cx="7632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急救护理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mergency Nur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第二章    院前急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646200" y="404640"/>
            <a:ext cx="8497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急救分中心或分站设置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1"/>
          <p:cNvSpPr/>
          <p:nvPr/>
        </p:nvSpPr>
        <p:spPr>
          <a:xfrm>
            <a:off x="468360" y="1125360"/>
            <a:ext cx="8351640" cy="72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数量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社区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地点</a:t>
            </a:r>
            <a:r>
              <a:rPr b="1" lang="zh-CN" sz="24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口密集、特殊需要、交通便利、医院附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建筑设置</a:t>
            </a:r>
            <a:r>
              <a:rPr b="1" lang="zh-CN" sz="24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地面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0-10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办公室、调度室、会议室等</a:t>
            </a:r>
            <a:r>
              <a:rPr b="1" lang="zh-CN" sz="24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基本设备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车、药品器械、通讯设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急救反应时间</a:t>
            </a:r>
            <a:r>
              <a:rPr b="0" lang="zh-CN" sz="2800" spc="-1" strike="noStrike">
                <a:solidFill>
                  <a:srgbClr val="22228b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区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  郊区≤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急救半径 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区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  农村≤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区域人口与急救车辆配置</a:t>
            </a:r>
            <a:r>
              <a:rPr b="0" lang="zh-CN" sz="2800" spc="-1" strike="noStrike">
                <a:solidFill>
                  <a:srgbClr val="22228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急救车医护人员与驾驶员配置</a:t>
            </a:r>
            <a:r>
              <a:rPr b="0" lang="zh-CN" sz="2800" spc="-1" strike="noStrike">
                <a:solidFill>
                  <a:srgbClr val="22228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1042920" y="1484280"/>
            <a:ext cx="6697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立健全急救通讯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备现代化的运输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备具有较高水平的救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右箭头 5"/>
          <p:cNvSpPr/>
          <p:nvPr/>
        </p:nvSpPr>
        <p:spPr>
          <a:xfrm>
            <a:off x="8172360" y="5805360"/>
            <a:ext cx="720720" cy="50328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41640" y="333360"/>
            <a:ext cx="38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  <a:ea typeface="楷体_GB2312"/>
              </a:rPr>
              <a:t>（三）院前急救服务系统的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lan1"/>
          <p:cNvPicPr/>
          <p:nvPr/>
        </p:nvPicPr>
        <p:blipFill>
          <a:blip r:embed="rId1"/>
          <a:stretch/>
        </p:blipFill>
        <p:spPr>
          <a:xfrm>
            <a:off x="609480" y="3429000"/>
            <a:ext cx="3962520" cy="2819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14791633"/>
          <p:cNvPicPr/>
          <p:nvPr/>
        </p:nvPicPr>
        <p:blipFill>
          <a:blip r:embed="rId2"/>
          <a:stretch/>
        </p:blipFill>
        <p:spPr>
          <a:xfrm>
            <a:off x="2057400" y="1368360"/>
            <a:ext cx="3352680" cy="206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点击放大"/>
          <p:cNvPicPr/>
          <p:nvPr/>
        </p:nvPicPr>
        <p:blipFill>
          <a:blip r:embed="rId3"/>
          <a:stretch/>
        </p:blipFill>
        <p:spPr>
          <a:xfrm>
            <a:off x="3714840" y="2035080"/>
            <a:ext cx="1714320" cy="1393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jijiu"/>
          <p:cNvPicPr/>
          <p:nvPr/>
        </p:nvPicPr>
        <p:blipFill>
          <a:blip r:embed="rId4"/>
          <a:stretch/>
        </p:blipFill>
        <p:spPr>
          <a:xfrm>
            <a:off x="5410080" y="1371600"/>
            <a:ext cx="2667240" cy="2057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20040708_23"/>
          <p:cNvPicPr/>
          <p:nvPr/>
        </p:nvPicPr>
        <p:blipFill>
          <a:blip r:embed="rId5"/>
          <a:stretch/>
        </p:blipFill>
        <p:spPr>
          <a:xfrm>
            <a:off x="4572000" y="3429000"/>
            <a:ext cx="3673440" cy="27576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324000" y="1413000"/>
            <a:ext cx="16700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急救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急救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急救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救护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左箭头 8"/>
          <p:cNvSpPr/>
          <p:nvPr/>
        </p:nvSpPr>
        <p:spPr>
          <a:xfrm>
            <a:off x="8317080" y="5445000"/>
            <a:ext cx="610920" cy="792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xin_c6357f9375b711d98be500d0f8097874"/>
          <p:cNvPicPr/>
          <p:nvPr/>
        </p:nvPicPr>
        <p:blipFill>
          <a:blip r:embed="rId1"/>
          <a:stretch/>
        </p:blipFill>
        <p:spPr>
          <a:xfrm>
            <a:off x="0" y="1628640"/>
            <a:ext cx="4343400" cy="4104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118159"/>
          <p:cNvPicPr/>
          <p:nvPr/>
        </p:nvPicPr>
        <p:blipFill>
          <a:blip r:embed="rId2"/>
          <a:stretch/>
        </p:blipFill>
        <p:spPr>
          <a:xfrm>
            <a:off x="4284720" y="1628640"/>
            <a:ext cx="4535280" cy="4105440"/>
          </a:xfrm>
          <a:prstGeom prst="rect">
            <a:avLst/>
          </a:prstGeom>
          <a:ln w="0">
            <a:noFill/>
          </a:ln>
        </p:spPr>
      </p:pic>
      <p:sp>
        <p:nvSpPr>
          <p:cNvPr id="312" name="左箭头 3"/>
          <p:cNvSpPr/>
          <p:nvPr/>
        </p:nvSpPr>
        <p:spPr>
          <a:xfrm>
            <a:off x="8317080" y="5877000"/>
            <a:ext cx="647640" cy="43164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116000" y="2349360"/>
            <a:ext cx="352728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急呼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1116000" y="3141720"/>
            <a:ext cx="352908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场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1116000" y="3933720"/>
            <a:ext cx="360036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场救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1116000" y="4653000"/>
            <a:ext cx="360036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运及途中监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五角星 9"/>
          <p:cNvSpPr/>
          <p:nvPr/>
        </p:nvSpPr>
        <p:spPr>
          <a:xfrm>
            <a:off x="3780000" y="4005360"/>
            <a:ext cx="504720" cy="288720"/>
          </a:xfrm>
          <a:custGeom>
            <a:avLst/>
            <a:gdLst>
              <a:gd name="textAreaLeft" fmla="*/ 155880 w 504720"/>
              <a:gd name="textAreaRight" fmla="*/ 348840 w 5047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504825" h="288925">
                <a:moveTo>
                  <a:pt x="1" y="110359"/>
                </a:moveTo>
                <a:lnTo>
                  <a:pt x="192827" y="110360"/>
                </a:lnTo>
                <a:lnTo>
                  <a:pt x="252413" y="0"/>
                </a:lnTo>
                <a:lnTo>
                  <a:pt x="311998" y="110360"/>
                </a:lnTo>
                <a:lnTo>
                  <a:pt x="504824" y="110359"/>
                </a:lnTo>
                <a:lnTo>
                  <a:pt x="348824" y="178565"/>
                </a:lnTo>
                <a:lnTo>
                  <a:pt x="408412" y="288924"/>
                </a:lnTo>
                <a:lnTo>
                  <a:pt x="252413" y="220718"/>
                </a:lnTo>
                <a:lnTo>
                  <a:pt x="96413" y="288924"/>
                </a:lnTo>
                <a:lnTo>
                  <a:pt x="156001" y="17856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611280" y="26028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节  院前急救的工作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2"/>
          <p:cNvSpPr/>
          <p:nvPr/>
        </p:nvSpPr>
        <p:spPr>
          <a:xfrm>
            <a:off x="2700360" y="26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一、紧急呼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611280" y="1484280"/>
            <a:ext cx="85327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我国统一开通的医疗急救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呼救时应清楚说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4"/>
          <p:cNvSpPr/>
          <p:nvPr/>
        </p:nvSpPr>
        <p:spPr>
          <a:xfrm>
            <a:off x="684360" y="2637000"/>
            <a:ext cx="770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病人姓名、性别、年龄、住址、接车地点及联络电话号码；②病人所在的确切地点，尽可能指出周围明显标记和最佳路径等；③病人目前最危急的情况，如大出血、意识不清、呼吸困难等；④灾害事件、突发事件，要说明伤害性质、严重程度、发生的原因、受伤人数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556000" y="33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二、现场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395280" y="15573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环境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extBox 5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9199440" cy="72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1547640" y="40464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三、现场救护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院前急救的首要环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468360" y="1341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取合适体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"/>
          <p:cNvSpPr/>
          <p:nvPr/>
        </p:nvSpPr>
        <p:spPr>
          <a:xfrm>
            <a:off x="755640" y="1989000"/>
            <a:ext cx="7561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复苏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不清有呼吸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平卧头向一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呼吸、心跳存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根据受伤、病变部位摆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蛇咬伤，急腹症、脚扭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0" y="1413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现场救护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468360" y="2362320"/>
            <a:ext cx="72356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呼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循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枢神经系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灾害、意外事故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创伤的现场救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5" descr="包扎.jpg"/>
          <p:cNvPicPr/>
          <p:nvPr/>
        </p:nvPicPr>
        <p:blipFill>
          <a:blip r:embed="rId1"/>
          <a:stretch/>
        </p:blipFill>
        <p:spPr>
          <a:xfrm>
            <a:off x="6413400" y="1628640"/>
            <a:ext cx="2730600" cy="15750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6" descr="固定.jpg"/>
          <p:cNvPicPr/>
          <p:nvPr/>
        </p:nvPicPr>
        <p:blipFill>
          <a:blip r:embed="rId2"/>
          <a:stretch/>
        </p:blipFill>
        <p:spPr>
          <a:xfrm>
            <a:off x="6434280" y="4581360"/>
            <a:ext cx="2709720" cy="17971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7" descr="止血包扎.jpg"/>
          <p:cNvPicPr/>
          <p:nvPr/>
        </p:nvPicPr>
        <p:blipFill>
          <a:blip r:embed="rId3"/>
          <a:stretch/>
        </p:blipFill>
        <p:spPr>
          <a:xfrm>
            <a:off x="6443640" y="3213000"/>
            <a:ext cx="270036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46"/>
          <p:cNvGrpSpPr/>
          <p:nvPr/>
        </p:nvGrpSpPr>
        <p:grpSpPr>
          <a:xfrm>
            <a:off x="135000" y="1557360"/>
            <a:ext cx="9226440" cy="3874680"/>
            <a:chOff x="135000" y="1557360"/>
            <a:chExt cx="9226440" cy="3874680"/>
          </a:xfrm>
        </p:grpSpPr>
        <p:grpSp>
          <p:nvGrpSpPr>
            <p:cNvPr id="234" name="Group 41"/>
            <p:cNvGrpSpPr/>
            <p:nvPr/>
          </p:nvGrpSpPr>
          <p:grpSpPr>
            <a:xfrm>
              <a:off x="135000" y="1557360"/>
              <a:ext cx="8036640" cy="3866760"/>
              <a:chOff x="135000" y="1557360"/>
              <a:chExt cx="8036640" cy="3866760"/>
            </a:xfrm>
          </p:grpSpPr>
          <p:grpSp>
            <p:nvGrpSpPr>
              <p:cNvPr id="235" name="Group 39"/>
              <p:cNvGrpSpPr/>
              <p:nvPr/>
            </p:nvGrpSpPr>
            <p:grpSpPr>
              <a:xfrm>
                <a:off x="2016000" y="1557360"/>
                <a:ext cx="6155640" cy="3866760"/>
                <a:chOff x="2016000" y="1557360"/>
                <a:chExt cx="6155640" cy="3866760"/>
              </a:xfrm>
            </p:grpSpPr>
            <p:sp>
              <p:nvSpPr>
                <p:cNvPr id="236" name="Line 3"/>
                <p:cNvSpPr/>
                <p:nvPr/>
              </p:nvSpPr>
              <p:spPr>
                <a:xfrm>
                  <a:off x="2249280" y="2895840"/>
                  <a:ext cx="55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4"/>
                <p:cNvSpPr/>
                <p:nvPr/>
              </p:nvSpPr>
              <p:spPr>
                <a:xfrm>
                  <a:off x="2309760" y="3647520"/>
                  <a:ext cx="49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"/>
                <p:cNvSpPr/>
                <p:nvPr/>
              </p:nvSpPr>
              <p:spPr>
                <a:xfrm>
                  <a:off x="2249280" y="4323960"/>
                  <a:ext cx="55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6"/>
                <p:cNvGrpSpPr/>
                <p:nvPr/>
              </p:nvGrpSpPr>
              <p:grpSpPr>
                <a:xfrm>
                  <a:off x="2016000" y="2143080"/>
                  <a:ext cx="797760" cy="376200"/>
                  <a:chOff x="2016000" y="2143080"/>
                  <a:chExt cx="797760" cy="376200"/>
                </a:xfrm>
              </p:grpSpPr>
              <p:sp>
                <p:nvSpPr>
                  <p:cNvPr id="240" name="Line 7"/>
                  <p:cNvSpPr/>
                  <p:nvPr/>
                </p:nvSpPr>
                <p:spPr>
                  <a:xfrm>
                    <a:off x="2323080" y="214344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8"/>
                  <p:cNvSpPr/>
                  <p:nvPr/>
                </p:nvSpPr>
                <p:spPr>
                  <a:xfrm flipV="1">
                    <a:off x="2016000" y="214308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" name="AutoShape 12"/>
                <p:cNvSpPr/>
                <p:nvPr/>
              </p:nvSpPr>
              <p:spPr>
                <a:xfrm>
                  <a:off x="2796840" y="1557360"/>
                  <a:ext cx="5374800" cy="100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14"/>
                <p:cNvSpPr/>
                <p:nvPr/>
              </p:nvSpPr>
              <p:spPr>
                <a:xfrm>
                  <a:off x="2796840" y="2657520"/>
                  <a:ext cx="4978800" cy="48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16"/>
                <p:cNvSpPr/>
                <p:nvPr/>
              </p:nvSpPr>
              <p:spPr>
                <a:xfrm>
                  <a:off x="2792520" y="3390120"/>
                  <a:ext cx="520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18"/>
                <p:cNvSpPr/>
                <p:nvPr/>
              </p:nvSpPr>
              <p:spPr>
                <a:xfrm>
                  <a:off x="2724840" y="2034000"/>
                  <a:ext cx="183960" cy="22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Oval 19"/>
                <p:cNvSpPr/>
                <p:nvPr/>
              </p:nvSpPr>
              <p:spPr>
                <a:xfrm>
                  <a:off x="2734920" y="2784240"/>
                  <a:ext cx="184320" cy="22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20"/>
                <p:cNvSpPr/>
                <p:nvPr/>
              </p:nvSpPr>
              <p:spPr>
                <a:xfrm>
                  <a:off x="2734920" y="3534840"/>
                  <a:ext cx="184320" cy="22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21"/>
                <p:cNvSpPr/>
                <p:nvPr/>
              </p:nvSpPr>
              <p:spPr>
                <a:xfrm>
                  <a:off x="2796840" y="4112280"/>
                  <a:ext cx="5374800" cy="54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23"/>
                <p:cNvSpPr/>
                <p:nvPr/>
              </p:nvSpPr>
              <p:spPr>
                <a:xfrm>
                  <a:off x="2724840" y="4249800"/>
                  <a:ext cx="183960" cy="22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4"/>
                <p:cNvSpPr/>
                <p:nvPr/>
              </p:nvSpPr>
              <p:spPr>
                <a:xfrm>
                  <a:off x="2808360" y="4942080"/>
                  <a:ext cx="536328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26"/>
                <p:cNvSpPr/>
                <p:nvPr/>
              </p:nvSpPr>
              <p:spPr>
                <a:xfrm>
                  <a:off x="2734920" y="5023440"/>
                  <a:ext cx="1843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27"/>
              <p:cNvGrpSpPr/>
              <p:nvPr/>
            </p:nvGrpSpPr>
            <p:grpSpPr>
              <a:xfrm>
                <a:off x="135000" y="2709720"/>
                <a:ext cx="2081160" cy="1800360"/>
                <a:chOff x="135000" y="2709720"/>
                <a:chExt cx="2081160" cy="1800360"/>
              </a:xfrm>
            </p:grpSpPr>
            <p:sp>
              <p:nvSpPr>
                <p:cNvPr id="253" name="Oval 28"/>
                <p:cNvSpPr/>
                <p:nvPr/>
              </p:nvSpPr>
              <p:spPr>
                <a:xfrm>
                  <a:off x="320760" y="330300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29"/>
                <p:cNvSpPr/>
                <p:nvPr/>
              </p:nvSpPr>
              <p:spPr>
                <a:xfrm>
                  <a:off x="157680" y="330156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30"/>
                <p:cNvSpPr/>
                <p:nvPr/>
              </p:nvSpPr>
              <p:spPr>
                <a:xfrm>
                  <a:off x="135000" y="332136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31"/>
                <p:cNvSpPr/>
                <p:nvPr/>
              </p:nvSpPr>
              <p:spPr>
                <a:xfrm>
                  <a:off x="255960" y="330300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32"/>
                <p:cNvSpPr/>
                <p:nvPr/>
              </p:nvSpPr>
              <p:spPr>
                <a:xfrm>
                  <a:off x="286920" y="270972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33"/>
                <p:cNvSpPr/>
                <p:nvPr/>
              </p:nvSpPr>
              <p:spPr>
                <a:xfrm>
                  <a:off x="309600" y="271944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34"/>
                <p:cNvSpPr/>
                <p:nvPr/>
              </p:nvSpPr>
              <p:spPr>
                <a:xfrm>
                  <a:off x="329400" y="273636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35"/>
                <p:cNvSpPr/>
                <p:nvPr/>
              </p:nvSpPr>
              <p:spPr>
                <a:xfrm>
                  <a:off x="405720" y="276156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36"/>
                <p:cNvSpPr/>
                <p:nvPr/>
              </p:nvSpPr>
              <p:spPr>
                <a:xfrm>
                  <a:off x="268920" y="3167640"/>
                  <a:ext cx="182844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" name="Text Box 40"/>
            <p:cNvSpPr/>
            <p:nvPr/>
          </p:nvSpPr>
          <p:spPr>
            <a:xfrm>
              <a:off x="3024000" y="1557360"/>
              <a:ext cx="6337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.</a:t>
              </a: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熟悉院前急救现场评估、救护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方法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3240000" y="2710080"/>
              <a:ext cx="4275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掌握院前急救的原则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43"/>
            <p:cNvSpPr/>
            <p:nvPr/>
          </p:nvSpPr>
          <p:spPr>
            <a:xfrm>
              <a:off x="3168720" y="3372120"/>
              <a:ext cx="5003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掌握转运及途中监护注意事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4"/>
            <p:cNvSpPr/>
            <p:nvPr/>
          </p:nvSpPr>
          <p:spPr>
            <a:xfrm>
              <a:off x="3240000" y="4149720"/>
              <a:ext cx="4713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熟悉院前急救的特点及任务</a:t>
              </a: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5"/>
            <p:cNvSpPr/>
            <p:nvPr/>
          </p:nvSpPr>
          <p:spPr>
            <a:xfrm>
              <a:off x="3240000" y="4942080"/>
              <a:ext cx="460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.</a:t>
              </a: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了解院前急救的组织体系</a:t>
              </a: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47"/>
          <p:cNvSpPr/>
          <p:nvPr/>
        </p:nvSpPr>
        <p:spPr>
          <a:xfrm>
            <a:off x="2755800" y="3960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37"/>
          <p:cNvSpPr/>
          <p:nvPr/>
        </p:nvSpPr>
        <p:spPr>
          <a:xfrm>
            <a:off x="2268360" y="443700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1692360" y="404640"/>
            <a:ext cx="72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四、转运及途中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395280" y="198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转运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250920" y="2637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搬运技术：原则是及时、迅速、平稳、安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"/>
          <p:cNvSpPr/>
          <p:nvPr/>
        </p:nvSpPr>
        <p:spPr>
          <a:xfrm>
            <a:off x="250920" y="3213720"/>
            <a:ext cx="72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搬运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图片 9" descr="担架.jpg"/>
          <p:cNvPicPr/>
          <p:nvPr/>
        </p:nvPicPr>
        <p:blipFill>
          <a:blip r:embed="rId1"/>
          <a:stretch/>
        </p:blipFill>
        <p:spPr>
          <a:xfrm>
            <a:off x="179280" y="3716280"/>
            <a:ext cx="3302280" cy="247644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0" descr="救护车内部.jpg"/>
          <p:cNvPicPr/>
          <p:nvPr/>
        </p:nvPicPr>
        <p:blipFill>
          <a:blip r:embed="rId2"/>
          <a:stretch/>
        </p:blipFill>
        <p:spPr>
          <a:xfrm>
            <a:off x="6084720" y="4797360"/>
            <a:ext cx="3059280" cy="158112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11" descr="直升机底部.jpg"/>
          <p:cNvPicPr/>
          <p:nvPr/>
        </p:nvPicPr>
        <p:blipFill>
          <a:blip r:embed="rId3"/>
          <a:stretch/>
        </p:blipFill>
        <p:spPr>
          <a:xfrm>
            <a:off x="6084720" y="3068640"/>
            <a:ext cx="3059280" cy="171432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14" descr="救护车.jpg"/>
          <p:cNvPicPr/>
          <p:nvPr/>
        </p:nvPicPr>
        <p:blipFill>
          <a:blip r:embed="rId4"/>
          <a:stretch/>
        </p:blipFill>
        <p:spPr>
          <a:xfrm>
            <a:off x="3564000" y="3716280"/>
            <a:ext cx="25207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3"/>
          <p:cNvSpPr/>
          <p:nvPr/>
        </p:nvSpPr>
        <p:spPr>
          <a:xfrm>
            <a:off x="611280" y="1413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途中监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250920" y="29232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担架行进途中，病员头部在后，足部在前，以利于观察病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救护车内部.jpg"/>
          <p:cNvPicPr/>
          <p:nvPr/>
        </p:nvPicPr>
        <p:blipFill>
          <a:blip r:embed="rId1"/>
          <a:stretch/>
        </p:blipFill>
        <p:spPr>
          <a:xfrm>
            <a:off x="6084720" y="4797360"/>
            <a:ext cx="3059280" cy="1581120"/>
          </a:xfrm>
          <a:prstGeom prst="rect">
            <a:avLst/>
          </a:prstGeom>
          <a:ln w="0">
            <a:noFill/>
          </a:ln>
        </p:spPr>
      </p:pic>
      <p:sp>
        <p:nvSpPr>
          <p:cNvPr id="345" name="矩形 7"/>
          <p:cNvSpPr/>
          <p:nvPr/>
        </p:nvSpPr>
        <p:spPr>
          <a:xfrm>
            <a:off x="468360" y="249228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不同的运输工具和病情摆好伤病员的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8"/>
          <p:cNvSpPr/>
          <p:nvPr/>
        </p:nvSpPr>
        <p:spPr>
          <a:xfrm>
            <a:off x="468360" y="3500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脊椎损伤者应立即制动，保持脊柱轴线稳定，将其身体固定在硬板担架上搬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79280" y="42530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车在拐弯、上下坡、停车调头中要防颠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免病人病情加重，发生坠落等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395280" y="1484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途中监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10" descr="救护车内部.jpg"/>
          <p:cNvPicPr/>
          <p:nvPr/>
        </p:nvPicPr>
        <p:blipFill>
          <a:blip r:embed="rId1"/>
          <a:stretch/>
        </p:blipFill>
        <p:spPr>
          <a:xfrm>
            <a:off x="6084720" y="4797360"/>
            <a:ext cx="3059280" cy="1581120"/>
          </a:xfrm>
          <a:prstGeom prst="rect">
            <a:avLst/>
          </a:prstGeom>
          <a:ln w="0">
            <a:noFill/>
          </a:ln>
        </p:spPr>
      </p:pic>
      <p:sp>
        <p:nvSpPr>
          <p:cNvPr id="350" name="矩形 9"/>
          <p:cNvSpPr/>
          <p:nvPr/>
        </p:nvSpPr>
        <p:spPr>
          <a:xfrm>
            <a:off x="611280" y="23493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运中要注意保暖和湿化呼吸道，一般将伤员横放，休克者将头朝向机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0"/>
          <p:cNvSpPr/>
          <p:nvPr/>
        </p:nvSpPr>
        <p:spPr>
          <a:xfrm>
            <a:off x="468360" y="342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要充分利用运输工具上的急救仪器、设备、药物，对伤病员实施生命支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1"/>
          <p:cNvSpPr/>
          <p:nvPr/>
        </p:nvSpPr>
        <p:spPr>
          <a:xfrm>
            <a:off x="468360" y="4437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抢救、观察、监护等有关医疗护理文件的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1"/>
          <p:cNvSpPr/>
          <p:nvPr/>
        </p:nvSpPr>
        <p:spPr>
          <a:xfrm>
            <a:off x="1116000" y="2492280"/>
            <a:ext cx="676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生存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是指第一目击者、旁观者、急救调度、急救服务人员、急救医生和护士作为团队，共同协作，共同为抢救生命进行的一系列有序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1619280" y="404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节  院前急救的生存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3"/>
          <p:cNvSpPr/>
          <p:nvPr/>
        </p:nvSpPr>
        <p:spPr>
          <a:xfrm>
            <a:off x="2195640" y="1628640"/>
            <a:ext cx="4464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早期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早期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早期心脏除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早期高级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7696440" cy="15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2411280" y="54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"/>
          <p:cNvSpPr/>
          <p:nvPr/>
        </p:nvSpPr>
        <p:spPr>
          <a:xfrm>
            <a:off x="611280" y="1628640"/>
            <a:ext cx="770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院前急救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MS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首要环节和重要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院前急救的主要任务是争分夺秒地进行现场救护、灾难处理和安全转运急危重症伤病患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院前急救主要内容包括院前急救任务和原则，院前急救服务系统的设置与管理，急危重症伤病员的现场评估、现场救护、转运及途中监护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4000" y="1483920"/>
            <a:ext cx="784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学生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饮酒后驾驶摩托车与一小轿车相撞，当即倒在地上，头部涌出大量鲜血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357336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可能出现什么情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救护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1835280" y="189000"/>
            <a:ext cx="4479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1116000" y="1773360"/>
            <a:ext cx="3384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院前急救的重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042920" y="2637000"/>
            <a:ext cx="35290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院前急救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1042920" y="3500280"/>
            <a:ext cx="36003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院前急救的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1042920" y="4221000"/>
            <a:ext cx="3960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院前急救的原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1042920" y="4941720"/>
            <a:ext cx="633744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院前急救服务系统的设置与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五角星 9"/>
          <p:cNvSpPr/>
          <p:nvPr/>
        </p:nvSpPr>
        <p:spPr>
          <a:xfrm>
            <a:off x="3780000" y="4292640"/>
            <a:ext cx="504720" cy="288720"/>
          </a:xfrm>
          <a:custGeom>
            <a:avLst/>
            <a:gdLst>
              <a:gd name="textAreaLeft" fmla="*/ 155880 w 504720"/>
              <a:gd name="textAreaRight" fmla="*/ 348840 w 50472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504825" h="288925">
                <a:moveTo>
                  <a:pt x="1" y="110359"/>
                </a:moveTo>
                <a:lnTo>
                  <a:pt x="192827" y="110360"/>
                </a:lnTo>
                <a:lnTo>
                  <a:pt x="252413" y="0"/>
                </a:lnTo>
                <a:lnTo>
                  <a:pt x="311998" y="110360"/>
                </a:lnTo>
                <a:lnTo>
                  <a:pt x="504824" y="110359"/>
                </a:lnTo>
                <a:lnTo>
                  <a:pt x="348824" y="178565"/>
                </a:lnTo>
                <a:lnTo>
                  <a:pt x="408412" y="288924"/>
                </a:lnTo>
                <a:lnTo>
                  <a:pt x="252413" y="220718"/>
                </a:lnTo>
                <a:lnTo>
                  <a:pt x="96413" y="288924"/>
                </a:lnTo>
                <a:lnTo>
                  <a:pt x="156001" y="17856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1197000"/>
            <a:ext cx="3816360" cy="1440000"/>
          </a:xfrm>
          <a:prstGeom prst="wedgeRectCallout">
            <a:avLst>
              <a:gd name="adj1" fmla="val -67305"/>
              <a:gd name="adj2" fmla="val 14606"/>
            </a:avLst>
          </a:prstGeom>
          <a:solidFill>
            <a:srgbClr val="ccccff"/>
          </a:solidFill>
          <a:ln w="936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快速有效的院前急救，可极大提高伤病员的抢救成功率，减少伤残率和病死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179280" y="1844640"/>
            <a:ext cx="8748720" cy="439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突发性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发性强、不可预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紧迫性 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就是生命的紧急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杂性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种涉及临床各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艰难性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条件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动性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区域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危险性</a:t>
            </a:r>
            <a:r>
              <a:rPr b="1" lang="zh-CN" sz="24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灾难及突发事件的危险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活性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场缺医少药，应机动灵活、就地取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社会性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社会各方面共同参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2484360" y="33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院前急救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971640" y="1773360"/>
            <a:ext cx="7200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平时呼救病人的院前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灾难战争时对遇难者的院前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特殊任务时的救护值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急救通讯网络中的枢纽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d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楷体_GB2312"/>
              </a:rPr>
              <a:t>急救知识的宣传普及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2411280" y="549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院前急救的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476360" y="1628640"/>
            <a:ext cx="7201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楷体_GB2312"/>
              </a:rPr>
              <a:t>先排险后施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楷体_GB2312"/>
              </a:rPr>
              <a:t>先救命后救伤、先重伤后轻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楷体_GB2312"/>
              </a:rPr>
              <a:t>先止血后包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楷体_GB2312"/>
              </a:rPr>
              <a:t>先救护后运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楷体_GB2312"/>
              </a:rPr>
              <a:t>先固定后搬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楷体_GB2312"/>
              </a:rPr>
              <a:t>急救与呼救并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楷体_GB2312"/>
              </a:rPr>
              <a:t>转运与监护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755640" y="476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院前急救的原则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先救命，后治病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五角星 7"/>
          <p:cNvSpPr/>
          <p:nvPr/>
        </p:nvSpPr>
        <p:spPr>
          <a:xfrm>
            <a:off x="7451640" y="1628640"/>
            <a:ext cx="360360" cy="360360"/>
          </a:xfrm>
          <a:custGeom>
            <a:avLst/>
            <a:gdLst>
              <a:gd name="textAreaLeft" fmla="*/ 111240 w 360360"/>
              <a:gd name="textAreaRight" fmla="*/ 249120 w 36036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360363" h="360363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4" y="222715"/>
                </a:lnTo>
                <a:lnTo>
                  <a:pt x="291540" y="360362"/>
                </a:lnTo>
                <a:lnTo>
                  <a:pt x="180182" y="275291"/>
                </a:lnTo>
                <a:lnTo>
                  <a:pt x="68823" y="360362"/>
                </a:lnTo>
                <a:lnTo>
                  <a:pt x="111359" y="22271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395280" y="1484280"/>
            <a:ext cx="874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楷体_GB2312"/>
              </a:rPr>
              <a:t>（一）我国院前急救的组织模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北京模式、广州模式、上海模式、重庆模式、深圳模式、香港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1042920" y="404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院前急救服务系统的设置与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0" y="3500280"/>
            <a:ext cx="4876920" cy="2968920"/>
            <a:chOff x="0" y="3500280"/>
            <a:chExt cx="4876920" cy="2968920"/>
          </a:xfrm>
        </p:grpSpPr>
        <p:pic>
          <p:nvPicPr>
            <p:cNvPr id="292" name="Picture 6" descr="008"/>
            <p:cNvPicPr/>
            <p:nvPr/>
          </p:nvPicPr>
          <p:blipFill>
            <a:blip r:embed="rId1"/>
            <a:stretch/>
          </p:blipFill>
          <p:spPr>
            <a:xfrm>
              <a:off x="0" y="3500280"/>
              <a:ext cx="4876920" cy="29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7"/>
            <p:cNvSpPr/>
            <p:nvPr/>
          </p:nvSpPr>
          <p:spPr>
            <a:xfrm>
              <a:off x="1235520" y="3556440"/>
              <a:ext cx="31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Verdana"/>
                  <a:ea typeface="华文中宋"/>
                </a:rPr>
                <a:t>上海市医疗急救中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Picture 3" descr="120home_14"/>
          <p:cNvPicPr/>
          <p:nvPr/>
        </p:nvPicPr>
        <p:blipFill>
          <a:blip r:embed="rId2"/>
          <a:stretch/>
        </p:blipFill>
        <p:spPr>
          <a:xfrm>
            <a:off x="4716360" y="3344760"/>
            <a:ext cx="424836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24000" y="1484280"/>
            <a:ext cx="849780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（二）我国院前急救系统设置原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急救中心设置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97164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院前急救服务系统的设置与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1"/>
          <p:cNvSpPr/>
          <p:nvPr/>
        </p:nvSpPr>
        <p:spPr>
          <a:xfrm>
            <a:off x="468360" y="2492280"/>
            <a:ext cx="835164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数量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以上区域设置一个，有独立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专用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地点</a:t>
            </a:r>
            <a:r>
              <a:rPr b="1" lang="zh-CN" sz="24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区域中心、交通方便、靠近大医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建筑设置</a:t>
            </a:r>
            <a:r>
              <a:rPr b="1" lang="zh-CN" sz="24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地面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00-20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教学科研、行政、后勤建筑等</a:t>
            </a:r>
            <a:r>
              <a:rPr b="1" lang="zh-CN" sz="24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基本设备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辆、设备、药品器械、通讯设备、教学科研设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35:49Z</dcterms:modified>
  <cp:revision>890</cp:revision>
  <dc:subject/>
  <dc:title>Reading Fun</dc:title>
</cp:coreProperties>
</file>